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F4D17-3A2F-4206-9DE5-8C6D94B1F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9DE92-CD46-42CB-95A9-3157E4106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3D7B7-E7AF-4B89-AE95-804EA1AF6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3E690-FF7C-430C-ABB7-A825F555A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4DA6C3-83FC-473A-A75D-C822B2F926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5D597-4009-4980-8BC7-3BF09749F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18F04-E246-4078-B39C-DCFC308D0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AD104-7C7C-475A-BA59-BE5C066C2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859E1-D0AB-4769-80D0-1C5C9A544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FFF32-0739-42C8-BFBE-DD2AFDD19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73A38-DC5B-494C-902B-A2A121D90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051F7-A1E3-4CCC-872B-41253C9EA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06C9B-35C6-46B3-94B9-CBF66A3BE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0C1AD-5A78-40EC-8174-EF4198002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2F37A-113B-46AD-B1F2-B1B29AC61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14125F-472D-4650-897E-33F37D8824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FD39FE-BD77-40F2-95A6-07EC292569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33CC84-442C-46CA-9A41-9601DD2EB0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5D2F6F-E9C5-4371-9620-6281B46E43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84F77C-D735-41D2-96B9-D0268AE1D8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153000-1108-4401-87A6-BD7492FFAF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111D91-C87D-4B69-AA1E-35D61D782C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76A48-C310-4A41-9014-03A61B77D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2CC9B0-A72B-4252-8B3D-D57FB31C49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92DDBC-4907-422C-A58F-5B5757B857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5FDB3-5DAB-426F-AC44-852252AA08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4DBAB5-8FC8-45D9-B684-F0C2393623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6636B8-4587-47B3-BB83-793EB6115E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7BC24A-0194-4773-BA68-68953F218A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8C1A52-59D0-41D7-8887-E1209B2254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586517-8C64-480B-943F-C86503D02A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A8F725-985E-431A-A72D-A093EA6329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ACF3CF-6C90-4136-91EF-3C4048C8F8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1F705-AFDB-4290-9A7A-04E554E13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29C464-9751-4F31-986A-D13847498D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897BCC-D169-455F-8849-AA758BF33B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D4CA8A-9CD0-4547-844C-5DAD49548A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2746B0-A4F1-4DF2-B264-4C395CA53C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E7AC75-9F98-4284-9BB4-15024E444E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08E506-520A-478D-B1DB-FE0EBA1A68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C24E00-7A61-46BC-AD91-8DFB40D216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A9447D-376F-4BC0-AA9D-81CA51AF53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C3C39B-323C-4BB4-AAF2-576F392A46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E4AA64-69B1-49B6-A582-45F1D04438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862C8-7D20-44A0-AFE1-9236CA3AD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F41B83-4B8F-48B9-BDF5-ED70BD6708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92C625-D33A-41B5-A72C-28A3F56663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FB3A24-A2ED-4A6A-94C4-14ADFF2778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4574F0-AC32-418F-B422-C2ACAE191E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57FB96-B03B-4A22-92F2-01671BD2B1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2E7938-7460-44B1-BA50-2BCC14F756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881B4D-97BD-4A8F-A254-9CA180A654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83BD0C-81B4-4EA0-B25A-7FFC2D32B7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D7DB4F-C310-4C8D-A19E-BDBCEA3E1E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2C370C-9855-4CE5-8EF2-5BEDB8DF45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606E8-6F3B-45A5-8689-CCC0A70D8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12E14C-76CB-4764-AE7F-0B056B4C21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A76531-0C70-4B92-91E3-79860B6D74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0CF70E-31DE-4409-BC82-9D1AAF4251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8896E6-0BC3-4C1B-952C-ADCB890775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132479-984F-41CF-84E2-5146A8F969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954AA8-8855-45E1-9DB1-027BB9A6C8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AF9672-3152-4C77-88DE-4DAE0F57CE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8850B1-8AD5-4B59-9CE2-9D2750BC09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4078BD-92CC-47E9-8F6D-0FEFB2A8AB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63D415-ABFE-4C53-A0AE-4A627FE408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25A8E-FB3C-4180-A36D-AECF358CB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12F337-F2EC-48B4-9F82-84A80F34ED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7FB987-FDBC-442D-B040-123FFDBEB6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209D73-1760-4266-9CC7-7E5EF717F9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EED1DE-D371-4BCC-BDF0-B1FE371A51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E6A44C-D318-4422-AEB8-4EC219CD7B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EC9D7A-E6B4-455A-99D5-FE39C27066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673C5D-831C-4B0D-8FA9-261A91F7FE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38D165-B783-4993-A712-D0BA564AE8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6BD81B-6D40-4661-87A9-6F32153E3E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A1ED6F-A406-4901-900C-2937B5FDD8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73689-ACE3-4950-B3B4-0358BEB77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EB5D05-5F5A-4810-828C-138A964055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373C26-59B1-41E0-9E96-F397B03C61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28F217-1A16-45DE-B523-0E0726E674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5198B9-FFD9-407A-B675-B8FC2E4371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4FD0DC-22EB-49D8-BE31-DFE162A16B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DB6B8-C37A-4DFA-A1F1-E4269049F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67300-E216-4B7A-8DE2-FA5089F43D8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E50B-2A8F-4F5A-864C-C9C0A223764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12810-F464-43EB-817D-6EA42277196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C4D3C-6E15-4E8C-8280-2B90211DB9E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9C1EF-DEC3-4FBF-BE09-D55B5F94765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33D23-389B-4F24-ACAE-B014B3174E3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C01C-BD5B-4F64-8B00-5BB52DABBD3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66680" y="1218960"/>
            <a:ext cx="6858000" cy="70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1eeff"/>
                </a:solidFill>
                <a:latin typeface="Consolas"/>
              </a:rPr>
              <a:t>This is what people with neurofibromatosis have to face every day.</a:t>
            </a:r>
            <a:endParaRPr b="0" lang="en-US" sz="1900" spc="-1" strike="noStrike">
              <a:solidFill>
                <a:srgbClr val="c1eeff"/>
              </a:solidFill>
              <a:latin typeface="Consolas"/>
            </a:endParaRPr>
          </a:p>
        </p:txBody>
      </p:sp>
      <p:pic>
        <p:nvPicPr>
          <p:cNvPr id="369" name="" descr=""/>
          <p:cNvPicPr/>
          <p:nvPr/>
        </p:nvPicPr>
        <p:blipFill>
          <a:blip r:embed="rId1"/>
          <a:stretch/>
        </p:blipFill>
        <p:spPr>
          <a:xfrm>
            <a:off x="367920" y="1893960"/>
            <a:ext cx="8777160" cy="4959360"/>
          </a:xfrm>
          <a:prstGeom prst="rect">
            <a:avLst/>
          </a:prstGeom>
          <a:ln w="0">
            <a:noFill/>
          </a:ln>
        </p:spPr>
      </p:pic>
      <p:sp>
        <p:nvSpPr>
          <p:cNvPr id="370" name="PlaceHolder 2"/>
          <p:cNvSpPr>
            <a:spLocks noGrp="1"/>
          </p:cNvSpPr>
          <p:nvPr>
            <p:ph/>
          </p:nvPr>
        </p:nvSpPr>
        <p:spPr>
          <a:xfrm>
            <a:off x="762120" y="6171840"/>
            <a:ext cx="6858000" cy="685800"/>
          </a:xfrm>
          <a:prstGeom prst="rect">
            <a:avLst/>
          </a:prstGeom>
          <a:noFill/>
          <a:ln w="0">
            <a:noFill/>
          </a:ln>
        </p:spPr>
        <p:txBody>
          <a:bodyPr anchor="t">
            <a:normAutofit/>
          </a:bodyPr>
          <a:p>
            <a:pPr marL="27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By Alexa Fentum</a:t>
            </a:r>
            <a:endParaRPr b="0" lang="en-US" sz="2000" spc="-1" strike="noStrike">
              <a:solidFill>
                <a:srgbClr val="ffffff"/>
              </a:solidFill>
              <a:latin typeface="Corbel"/>
            </a:endParaRPr>
          </a:p>
          <a:p>
            <a:pPr marL="27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5/6</a:t>
            </a:r>
            <a:endParaRPr b="0" lang="en-US" sz="2000" spc="-1" strike="noStrike">
              <a:solidFill>
                <a:srgbClr val="ffffff"/>
              </a:solidFill>
              <a:latin typeface="Corbel"/>
            </a:endParaRPr>
          </a:p>
        </p:txBody>
      </p:sp>
      <p:pic>
        <p:nvPicPr>
          <p:cNvPr id="371" name="Picture 4" descr="http://www.lifeinthefastlane.ca/wp-content/uploads/2008/06/james_oneal_1.jpg"/>
          <p:cNvPicPr/>
          <p:nvPr/>
        </p:nvPicPr>
        <p:blipFill>
          <a:blip r:embed="rId2"/>
          <a:stretch/>
        </p:blipFill>
        <p:spPr>
          <a:xfrm>
            <a:off x="1981080" y="2057400"/>
            <a:ext cx="5435640" cy="4076640"/>
          </a:xfrm>
          <a:prstGeom prst="rect">
            <a:avLst/>
          </a:prstGeom>
          <a:ln w="0">
            <a:noFill/>
          </a:ln>
        </p:spPr>
      </p:pic>
      <p:pic>
        <p:nvPicPr>
          <p:cNvPr id="372" name="Rectangle 10" descr=""/>
          <p:cNvPicPr/>
          <p:nvPr/>
        </p:nvPicPr>
        <p:blipFill>
          <a:blip r:embed="rId3"/>
          <a:stretch/>
        </p:blipFill>
        <p:spPr>
          <a:xfrm>
            <a:off x="36360" y="-225360"/>
            <a:ext cx="629784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eeff"/>
                </a:solidFill>
                <a:latin typeface="Consolas"/>
              </a:rPr>
              <a:t>Neurofibromatosis</a:t>
            </a:r>
            <a:endParaRPr b="0" lang="en-US" sz="2800" spc="-1" strike="noStrike">
              <a:solidFill>
                <a:srgbClr val="c1eeff"/>
              </a:solidFill>
              <a:latin typeface="Consolas"/>
            </a:endParaRPr>
          </a:p>
        </p:txBody>
      </p:sp>
      <p:sp>
        <p:nvSpPr>
          <p:cNvPr id="374" name=""/>
          <p:cNvSpPr txBox="1"/>
          <p:nvPr/>
        </p:nvSpPr>
        <p:spPr>
          <a:xfrm>
            <a:off x="465120" y="1770120"/>
            <a:ext cx="4038480" cy="4525920"/>
          </a:xfrm>
          <a:prstGeom prst="rect">
            <a:avLst/>
          </a:prstGeom>
          <a:noFill/>
          <a:ln w="0">
            <a:noFill/>
          </a:ln>
        </p:spPr>
        <p:txBody>
          <a:bodyPr anchor="t">
            <a:normAutofit fontScale="95000"/>
          </a:bodyPr>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Times New Roman"/>
              </a:rPr>
              <a:t>Discovered by Friedrich Daniel van Recklinghausen in 1882.</a:t>
            </a:r>
            <a:endParaRPr b="0" lang="en-US" sz="2400" spc="-1" strike="noStrike">
              <a:solidFill>
                <a:srgbClr val="ffffff"/>
              </a:solidFill>
              <a:latin typeface="Corbel"/>
            </a:endParaRPr>
          </a:p>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Times New Roman"/>
              </a:rPr>
              <a:t>It was first discovered in Paris, France. It is caused by gene mutations of the NF1 gene. Even though it only occurs in every three thousand live births, 75,000 are affected in the United States alone. </a:t>
            </a:r>
            <a:endParaRPr b="0" lang="en-US" sz="2400" spc="-1" strike="noStrike">
              <a:solidFill>
                <a:srgbClr val="ffffff"/>
              </a:solidFill>
              <a:latin typeface="Corbel"/>
            </a:endParaRPr>
          </a:p>
        </p:txBody>
      </p:sp>
      <p:sp>
        <p:nvSpPr>
          <p:cNvPr id="375" name=""/>
          <p:cNvSpPr txBox="1"/>
          <p:nvPr/>
        </p:nvSpPr>
        <p:spPr>
          <a:xfrm>
            <a:off x="4656240" y="1770120"/>
            <a:ext cx="4038480" cy="452592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Times New Roman"/>
              </a:rPr>
              <a:t>It is a genetic disorder. It causes tumors to grow on nerve tissue, producing skin and bone abnormalities. It can affect any organ. It is on chromosome 17. Type two is on chromosome 22. It is recessive.</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77" name=""/>
          <p:cNvSpPr txBox="1"/>
          <p:nvPr/>
        </p:nvSpPr>
        <p:spPr>
          <a:xfrm>
            <a:off x="465120" y="1770120"/>
            <a:ext cx="4038480" cy="45259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ea typeface="Times New Roman"/>
              </a:rPr>
              <a:t>Fortunately you can live with this disease. The prognosis is generally mild but can be severe.</a:t>
            </a:r>
            <a:endParaRPr b="0" lang="en-US" sz="3200" spc="-1" strike="noStrike">
              <a:solidFill>
                <a:srgbClr val="ffffff"/>
              </a:solidFill>
              <a:latin typeface="Corbel"/>
            </a:endParaRPr>
          </a:p>
        </p:txBody>
      </p:sp>
      <p:sp>
        <p:nvSpPr>
          <p:cNvPr id="378" name=""/>
          <p:cNvSpPr txBox="1"/>
          <p:nvPr/>
        </p:nvSpPr>
        <p:spPr>
          <a:xfrm>
            <a:off x="4656240" y="1770120"/>
            <a:ext cx="4038480" cy="45259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Times New Roman"/>
              </a:rPr>
              <a:t>There is no testing to be done to determine whether a pregnant woman’s baby has this disease. There is also no specific treatment except removal of these tumors.</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0" name=""/>
          <p:cNvSpPr txBox="1"/>
          <p:nvPr/>
        </p:nvSpPr>
        <p:spPr>
          <a:xfrm>
            <a:off x="465120" y="1770120"/>
            <a:ext cx="4038480" cy="4525920"/>
          </a:xfrm>
          <a:prstGeom prst="rect">
            <a:avLst/>
          </a:prstGeom>
          <a:noFill/>
          <a:ln w="0">
            <a:noFill/>
          </a:ln>
        </p:spPr>
        <p:txBody>
          <a:bodyPr anchor="t">
            <a:normAutofit fontScale="92000"/>
          </a:bodyPr>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rbel"/>
              </a:rPr>
              <a:t>Citations:</a:t>
            </a:r>
            <a:endParaRPr b="0" lang="en-US" sz="15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rbel"/>
              </a:rPr>
              <a:t>Kids Health. "Diseases." </a:t>
            </a:r>
            <a:r>
              <a:rPr b="1" i="1" lang="en-US" sz="1500" spc="-1" strike="noStrike">
                <a:solidFill>
                  <a:srgbClr val="ffffff"/>
                </a:solidFill>
                <a:latin typeface="Corbel"/>
              </a:rPr>
              <a:t>KidsHealth.com</a:t>
            </a:r>
            <a:r>
              <a:rPr b="1" lang="en-US" sz="1500" spc="-1" strike="noStrike">
                <a:solidFill>
                  <a:srgbClr val="ffffff"/>
                </a:solidFill>
                <a:latin typeface="Corbel"/>
              </a:rPr>
              <a:t>. Kids Health. Web. 25 Oct. 2009. &lt;http://kidshealth.org/parent/system/ill/nf.html&gt;.</a:t>
            </a:r>
            <a:endParaRPr b="0" lang="en-US" sz="15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rbel"/>
              </a:rPr>
              <a:t>Wikipedia. "Neurofibromatosis." </a:t>
            </a:r>
            <a:r>
              <a:rPr b="1" i="1" lang="en-US" sz="1500" spc="-1" strike="noStrike">
                <a:solidFill>
                  <a:srgbClr val="ffffff"/>
                </a:solidFill>
                <a:latin typeface="Corbel"/>
              </a:rPr>
              <a:t>Wikipedia</a:t>
            </a:r>
            <a:r>
              <a:rPr b="1" lang="en-US" sz="1500" spc="-1" strike="noStrike">
                <a:solidFill>
                  <a:srgbClr val="ffffff"/>
                </a:solidFill>
                <a:latin typeface="Corbel"/>
              </a:rPr>
              <a:t>. Wikipedia. Web. 25 Oct. 2009. &lt;http://wiki.answers.com/Q/Who_discovered_neurofibromatosis&gt;.</a:t>
            </a:r>
            <a:endParaRPr b="0" lang="en-US" sz="15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rbel"/>
              </a:rPr>
              <a:t>NCBI. "Neurofibromatosis." </a:t>
            </a:r>
            <a:r>
              <a:rPr b="1" i="1" lang="en-US" sz="1500" spc="-1" strike="noStrike">
                <a:solidFill>
                  <a:srgbClr val="ffffff"/>
                </a:solidFill>
                <a:latin typeface="Corbel"/>
              </a:rPr>
              <a:t>NCBI</a:t>
            </a:r>
            <a:r>
              <a:rPr b="1" lang="en-US" sz="1500" spc="-1" strike="noStrike">
                <a:solidFill>
                  <a:srgbClr val="ffffff"/>
                </a:solidFill>
                <a:latin typeface="Corbel"/>
              </a:rPr>
              <a:t>. Web. 25 Oct. 2009. &lt;http://www.ncbi.nlm.nih.gov/books/bv.fcgi?rid=gnd.section.210&gt;.</a:t>
            </a:r>
            <a:endParaRPr b="0" lang="en-US" sz="15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rbel"/>
              </a:rPr>
              <a:t>http://www.lifeinthefastlane.ca/modern-day-elephant-man-heroes/offbeat-news</a:t>
            </a:r>
            <a:endParaRPr b="0" lang="en-US" sz="15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rbel"/>
              </a:rPr>
              <a:t>Brown University. "Neurofibromatosis." </a:t>
            </a:r>
            <a:r>
              <a:rPr b="1" i="1" lang="en-US" sz="1500" spc="-1" strike="noStrike">
                <a:solidFill>
                  <a:srgbClr val="ffffff"/>
                </a:solidFill>
                <a:latin typeface="Corbel"/>
              </a:rPr>
              <a:t>Neural Crest &amp; Associated Disorders</a:t>
            </a:r>
            <a:r>
              <a:rPr b="1" lang="en-US" sz="1500" spc="-1" strike="noStrike">
                <a:solidFill>
                  <a:srgbClr val="ffffff"/>
                </a:solidFill>
                <a:latin typeface="Corbel"/>
              </a:rPr>
              <a:t>. Brown University. Web. 25 Oct. 2009. &lt;http://brown.edu/Courses/BI0032/neurcrst/nfibma.htm&gt;.</a:t>
            </a:r>
            <a:endParaRPr b="0" lang="en-US" sz="15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p:txBody>
      </p:sp>
      <p:sp>
        <p:nvSpPr>
          <p:cNvPr id="381" name=""/>
          <p:cNvSpPr txBox="1"/>
          <p:nvPr/>
        </p:nvSpPr>
        <p:spPr>
          <a:xfrm>
            <a:off x="4656240" y="1770120"/>
            <a:ext cx="4038480" cy="452592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00:46:36Z</dcterms:created>
  <dc:creator>Marie Callaway</dc:creator>
  <dc:description/>
  <dc:language>en-US</dc:language>
  <cp:lastModifiedBy>ad12</cp:lastModifiedBy>
  <dcterms:modified xsi:type="dcterms:W3CDTF">2009-10-27T18:16:15Z</dcterms:modified>
  <cp:revision>10</cp:revision>
  <dc:subject/>
  <dc:title>Slide 1</dc:title>
</cp:coreProperties>
</file>